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s-MY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20A7C-E021-4FA8-AC3D-B52836526E11}" type="slidenum">
              <a:rPr b="0" lang="ms-MY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0368D4-F797-42A3-8D5A-EFF8FA08D039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D7D46-065C-40E9-804B-5852E06C4626}" type="slidenum">
              <a:rPr b="0" lang="en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394D-0937-4BF6-A04A-A1010403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EBFD-5144-4D8C-881E-D81646A3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D496-D38F-442C-8AB8-672A02AE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F91-0DEA-4072-8BCD-2594422B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5EC0-805F-4E8C-8A5C-ECD9C918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010F-FD0B-44BD-BD18-5A222CD0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0DB8-FF87-45C2-8584-DEE59487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1120B-1C5C-4A47-96D3-030D006E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C0C6-B762-4DEA-9CCD-F4F42FFC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B543-CFFA-46D6-ACC7-758D2C36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F0E13-7772-4E5A-9958-4ED625CA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4D4D-FDD1-4A7F-8FCA-8DAA79D1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5A38-8D6F-455C-8D52-B4E805B2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AAE7-F27E-4FA8-94C2-6712E60B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244B-BAA0-4EBD-9B9B-E75897F0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808C-9563-4E64-BFFF-222D043A6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9463-40EB-4BF6-AAE9-9E73F1B0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AC379-C84C-44C5-80D4-1A9502A5D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8510F-23A0-4D9A-999B-2169EB6B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0086A-E20E-4AC1-87EF-425F373A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23F7C-FCCF-4868-94C3-6DDCD5A7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72F16-FF69-4147-899E-B4F7DBBB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687-9F8B-4E10-ABBE-609042DD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13986-4F90-4F2E-9540-275A235F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2F2B2-BE37-48D5-A0CD-0ED68545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C9B2D-2DF3-47FB-BB54-4AFC7984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5923B-C10B-4857-BA01-1D2E52CA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61EF5-E8BD-41A9-96DA-5E72DB68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DC3D1-BB9C-49E5-828B-5F4003B0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1C419-A2D1-45F6-9AB4-3588FB6F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3F32F-66FD-43E4-8944-5D46522A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90D4B-4710-40BE-8404-B438D582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D0A9A-B74F-468E-99DA-B8D000AE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670A-63E1-439E-A91A-4EAE18F5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AA30D-0857-43BE-B033-DED67A61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F1C7C-BE45-49D3-BD5F-A0058A4E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02603D-2A57-4976-8DF9-DAABB60E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DCA9C-30F2-423C-9397-2467D75F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95E57-1A7D-4882-83DA-E97E587C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6B748-4FCE-4C76-8001-77B45143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15B6B-5D38-4A5B-92B6-B5A28765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C3453-F4A6-4918-BDA7-04ADB19B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167D5-B233-4DDD-AB7A-07F979F5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9053F-3151-47EE-8CC9-99E83DEE5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8CFE-8932-4751-897F-03081047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4B97E-6307-4B7D-83B8-DD30B06C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3FCA6-073D-45C6-BFCE-0427AD82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01A0B-BA0F-4636-A641-9375D766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3E682-3FB8-4676-A490-CECBA8E8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4BB77-9862-48E1-8997-368202BA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32742-741E-4231-95ED-D1CE7104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AA146-6204-4F56-B9CA-C7280502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7F9CC-EFF2-4E19-93C1-70DC6F33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107F0-28CC-4558-8714-96225EF5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93012-3E6D-49BF-8E6E-1CC057C0D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B4F-0C6B-4659-AA4C-FF30BC6B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CD5C1-CF9E-40A3-9068-3FC84BB1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8CA30-CBF5-404D-B015-8F2F3635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D055B-8265-447C-8086-CF2262F0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EAEE1-7964-411C-864B-ABAEC11D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C0663-55BE-4242-AA95-E282C5A4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1EC77A-A417-4497-9FBA-83D3FECE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8E57B-4262-4F2F-8383-C736B7DD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654EC-A406-4797-A438-B3DB3899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FFA7C-B33E-4DF1-B2C2-2DA95D61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A65B0-86EB-4961-A1C4-A9D8EA0F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B264-BF42-4CEB-947E-9B3FAB37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E00F3-355F-4CDB-876F-0AD62CEF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85A93-E263-4C11-9DF2-FE268A94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FEE08-A7A4-4E33-9B12-EB905C01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AEB94-1E9C-47F7-A56B-9DE9F777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09B67-2C20-4590-A5DD-5B20CC64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D7E03-047F-4CCE-8707-E5DC5488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3C7AA-D78F-4675-9508-77A052CA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6DBE3-8615-4C89-872A-309A47F9E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13859-FD3A-48CA-88A2-74409028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28F02-2BC4-41E4-B1FD-0B1CD7DE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ED4-E811-47FB-859E-4E22459C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AF496-2771-4B06-A80B-F79A74E0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81A1F-A0F4-4D04-9BBF-128E3B65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C740F-53A1-42D5-84FC-213AF780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8FC23-7C94-4292-A5D1-F2658DBD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43DBD-215B-49AA-B83A-26D19F0D5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F042-DE6A-440F-95C0-5303F9B0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8C2CCA-B8FD-4E7A-8EA4-D8B2B0B1EE76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730E6-DEE4-443C-99AB-215E5B614AF1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1143C-751B-42E4-BC01-03B507D716DF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7A40C-AD19-41DC-AAAE-7A406E84ED31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17A711-F81D-4889-9B7B-E8063BA983A6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AB7A0-F969-477D-A0F7-F774B4F8788F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C66921-86AD-4C95-9684-17FD27F7EC87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49843-35F9-443F-9193-9301819B67DC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7A0C0-32CB-4243-BF85-160823504018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59C7C5-3CB2-444B-918C-908A80A3DC85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2707F-7E90-4BDF-A0D8-6CAE872981FC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9C001-D9F2-422D-BB11-4B926212789A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337102-9D50-4508-A0A2-FBE07A84F32F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BF282-F3B9-4705-98FC-AD2043AB137A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Delaying CKD Progression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825120" y="4456080"/>
            <a:ext cx="792324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 Light"/>
              </a:rPr>
              <a:t>MODULE 2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900" spc="-1" strike="noStrike">
                <a:solidFill>
                  <a:srgbClr val="000000"/>
                </a:solidFill>
                <a:latin typeface="Calibri Light"/>
              </a:rPr>
              <a:t>DR. SUNITA BAVANANDAN, HOSPITAL KUALA LUMPUR, KL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900" spc="-1" strike="noStrike">
                <a:solidFill>
                  <a:srgbClr val="000000"/>
                </a:solidFill>
                <a:latin typeface="Calibri Light"/>
              </a:rPr>
              <a:t>A/P DR. LIM SOO KUN, PUSAT PERUBATAN UNIVERSITI MALAYA, KL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1900" spc="-1" strike="noStrike">
                <a:solidFill>
                  <a:srgbClr val="000000"/>
                </a:solidFill>
                <a:latin typeface="Calibri Light"/>
              </a:rPr>
              <a:t>DR. ANG HOCK AUN, BAGAN SPECIALIST CENTRE, PULAU PINANG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  <p:sp>
        <p:nvSpPr>
          <p:cNvPr id="314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647FC-CB4A-4DF2-A1FA-1D7BB6EF913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Optimal blood pressure control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21880" y="1774800"/>
            <a:ext cx="75438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majority of CKD patients (70 - 80%) have hypertension (usually systolic) which is more severe than non-CKD patients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P lowering has an impact on all-cause mortality, cardiovascular (CV) events, stroke risk and progression of kidney disease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ny class of antihypertensive agents can be used to control BP in CKD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However, some antihypertensive agents have additional antiproteinuric effect [e.g. Angiotensin-Converting Enzyme Inhibitor (ACEi)/Angiotensin Receptor Blocker (ARB)]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9. MoH, Malaysia. Management of CKD in Adults. Putrajaya: MoH; 2011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18BDE-4C5E-4F5B-A433-56195BE9290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Blood pressure targe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89595-732B-41E5-996E-4E99577DDA9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Picture 7" descr=""/>
          <p:cNvPicPr/>
          <p:nvPr/>
        </p:nvPicPr>
        <p:blipFill>
          <a:blip r:embed="rId1"/>
          <a:stretch/>
        </p:blipFill>
        <p:spPr>
          <a:xfrm>
            <a:off x="822240" y="1800360"/>
            <a:ext cx="76374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Antihypertensive agents in CKD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8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CF74C-C06E-4BDB-A599-53020925567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790560" y="1800360"/>
            <a:ext cx="7726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Content Placeholder 1" descr=""/>
          <p:cNvPicPr/>
          <p:nvPr/>
        </p:nvPicPr>
        <p:blipFill>
          <a:blip r:embed="rId1"/>
          <a:stretch/>
        </p:blipFill>
        <p:spPr>
          <a:xfrm>
            <a:off x="1193760" y="1862280"/>
            <a:ext cx="6834240" cy="44463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2"/>
          <p:cNvSpPr/>
          <p:nvPr/>
        </p:nvSpPr>
        <p:spPr>
          <a:xfrm>
            <a:off x="7583400" y="2492280"/>
            <a:ext cx="113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Lo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Irbe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Val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Telmi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5"/>
          <p:cNvSpPr/>
          <p:nvPr/>
        </p:nvSpPr>
        <p:spPr>
          <a:xfrm>
            <a:off x="5398920" y="4597560"/>
            <a:ext cx="140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Perindo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Enala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Rami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Capto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6"/>
          <p:cNvSpPr/>
          <p:nvPr/>
        </p:nvSpPr>
        <p:spPr>
          <a:xfrm>
            <a:off x="7559640" y="4057560"/>
            <a:ext cx="11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Amlodip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Felodip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TextBox 7"/>
          <p:cNvSpPr/>
          <p:nvPr/>
        </p:nvSpPr>
        <p:spPr>
          <a:xfrm>
            <a:off x="684360" y="2460600"/>
            <a:ext cx="102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Ateno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Metopro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Bisopro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Carvedi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TextBox 8"/>
          <p:cNvSpPr/>
          <p:nvPr/>
        </p:nvSpPr>
        <p:spPr>
          <a:xfrm>
            <a:off x="642960" y="3914640"/>
            <a:ext cx="1120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Prazo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Terazo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Moxoni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Minoxid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5398920" y="1898640"/>
            <a:ext cx="14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H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Indapami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366E9-9C05-42F2-9017-41BA82EF649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Different classes of antiHPT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enin-angiotensin system (RAS) blocker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250560" y="1844280"/>
            <a:ext cx="87138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CEi and ARB confer both renoprotective and cardioprotective effects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re is more evidence on the use of ACEi or ARB in proteinuric diabetic kidney disease (DKD) compared to non-proteinuric DKD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CEi is more cost-effective than ARB. It should be prescribed first and changed to ARB only if there is non-renal adverse drug reaction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ual RAS blockade should not be prescribed routinely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ual RAS blockade may only be considered in non-DKD patients who remain hypertensive with persistent proteinuria &gt;0.5 g/day provided that serum potassium is within normal range (after discussion with nephrologist)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7400" indent="-1674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C78A3B-4520-4FB5-9079-F7DC1A10A19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enin-angiotensin system (RAS) blockers</a:t>
            </a:r>
            <a:r>
              <a:rPr b="1" lang="en-MY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98240" y="1846440"/>
            <a:ext cx="83214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nal profile should be reassessed within 2 weeks upon initiation or dose escalation of ACEi/ARB therapy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CEi/ARB should be titrated to the maximum recommended dose to achieve optimal BP and anti-proteinuric targets provided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SCr levels remain &lt;30% from the baseline (or eGFR reduces &lt;25%) o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serum potassium &lt;5.6 mmol/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onsider to reduce or discontinue ACEi/ARB within 2 months upon commencement (after excluding other precipitating factors) when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Calibri"/>
              </a:rPr>
              <a:t>SCr levels remain ≥30% from the baseline (or eGFR reduces ≥25%) o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erum potassium ≥5.6 mmol/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2E008-1C03-4AF4-A5DE-3DFAF39F688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Proteinuria reduc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21880" y="1846440"/>
            <a:ext cx="75438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oteinuria is an independent predictor for renal disease progression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magnitude of baseline proteinuria has a linear relationship with progression of CKD and risk of CV events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CEi/ARBs remain as the main agents that confer significant proteinuria reduction that leads to renoprotec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gents e.g. non-dihydropyridine calcium channel blockers (CCBs), vitamin D analogues, pentoxifylline etc. also have proteinuria reduction effect but do not confer significant renoprotec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73BD6-8CB0-4F56-8694-74F003CFAC1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404040"/>
                </a:solidFill>
                <a:latin typeface="Calibri Light"/>
              </a:rPr>
              <a:t>Glycaemic control</a:t>
            </a: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 for renoprotec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68000" y="3141360"/>
            <a:ext cx="8209080" cy="3095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Optimal glycaemic control should be attained to reduce the complications of diabetes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ggressive glycaemic control in patients with established CVD may increase the risks of hypoglycaemia and death due to impaired drug metabolism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gular blood glucose measurements are advised for more accurate assessment of diabetic control as HbA1c maybe falsely low in CKD due to anaemia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A1E95F-CE32-4A00-B0AE-A1BA6BB6013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5" descr=""/>
          <p:cNvPicPr/>
          <p:nvPr/>
        </p:nvPicPr>
        <p:blipFill>
          <a:blip r:embed="rId1"/>
          <a:stretch/>
        </p:blipFill>
        <p:spPr>
          <a:xfrm>
            <a:off x="763560" y="1773360"/>
            <a:ext cx="7747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000000"/>
                </a:solidFill>
                <a:latin typeface="Calibri Light"/>
              </a:rPr>
              <a:t>Strategies requiring more evidence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55A96F-1539-4A38-93DF-0D38AE2CFBA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Lifestyle modific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404040"/>
                </a:solidFill>
                <a:latin typeface="Calibri"/>
              </a:rPr>
              <a:t>Dietary protein restrict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eduction of weigh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Low salt die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moking cessat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5830A-F3BD-4170-80C9-DF6F1E8EEB7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Learning objectiv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learn the natural history of CKD and impact of optimal managem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discuss established strategies to delay CKD progress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understand potential strategies to delay CKD progression that would need further evidenc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2BCA47-3CC4-42CE-A230-738BC7F0688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Dietary protein restric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821880" y="3573000"/>
            <a:ext cx="7543800" cy="2295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roteinuria is an independent CV risk factor and an independent predictor for renal disease progress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rotein restriction is one of the supportive measures to delay CKD progress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694BE4-8BFB-4EA2-A29B-AA54787D6B1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6" descr=""/>
          <p:cNvPicPr/>
          <p:nvPr/>
        </p:nvPicPr>
        <p:blipFill>
          <a:blip r:embed="rId1"/>
          <a:stretch/>
        </p:blipFill>
        <p:spPr>
          <a:xfrm>
            <a:off x="696960" y="1916280"/>
            <a:ext cx="79074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300" spc="-1" strike="noStrike">
                <a:solidFill>
                  <a:srgbClr val="000000"/>
                </a:solidFill>
                <a:latin typeface="Calibri Light"/>
              </a:rPr>
              <a:t>Sodium-glucose co-transporter-2 (SGLT-2) inhibitors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404040"/>
                </a:solidFill>
                <a:latin typeface="Calibri"/>
              </a:rPr>
              <a:t>Potential ag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Recent trials (EMPA-REG, CANVAS/CANVAS-R) on sodium-glucose co-transporter-2 (SGLT2) inhibitors have been shown to improve CV outcomes and may have renoprotective effect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39, 40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404040"/>
                </a:solidFill>
                <a:latin typeface="Calibri"/>
              </a:rPr>
              <a:t>Avoid if 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eGFR &lt;45 ml/min </a:t>
            </a:r>
            <a:r>
              <a:rPr b="0" lang="en-MY" sz="2800" spc="-1" strike="noStrike">
                <a:solidFill>
                  <a:srgbClr val="404040"/>
                </a:solidFill>
                <a:latin typeface="Calibri"/>
              </a:rPr>
              <a:t>due to reduced efficacy in lowering HbA1c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404040"/>
                </a:solidFill>
                <a:latin typeface="Calibri"/>
              </a:rPr>
              <a:t>39. Wanner C, et al. N Engl J Med. 2016;375(4):323-34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404040"/>
                </a:solidFill>
                <a:latin typeface="Calibri"/>
              </a:rPr>
              <a:t>40. Neal B, et al. N Engl J Med. 2017;377(7):644-57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D6254-33B0-4D9B-BAA7-985EEDBF87D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Uric acid reduc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here is emerging evidence to suggest uric acid reduction (e.g. by allopurinol, febuxostat) is a potential strategy to delay CKD progression.</a:t>
            </a:r>
            <a:r>
              <a:rPr b="0" lang="en-MY" sz="2800" spc="-1" strike="noStrike" baseline="30000">
                <a:solidFill>
                  <a:srgbClr val="000000"/>
                </a:solidFill>
                <a:latin typeface="Calibri"/>
              </a:rPr>
              <a:t>45, 46, 47</a:t>
            </a: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owever, more RCTs are needed to confirm the renoprotective effect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45. Kanji T, et al. BMC Nephrol. 2015;16:58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46. Bose B, et al. Nephrol Dial Transplant. 2014;29(2):406-13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47. Sircar D, et al. Am J Kidney Dis. 2015;66(6):945-50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4912A-D574-4E9A-9D5F-E0E6C8B54A5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Strategies - not prove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Dual RAS blockad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Lipid lowering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Vitamin D analogu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entoxyfyllin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raditional medicin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BC8F5B-8ABA-482E-BAEC-D1363D47732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000000"/>
                </a:solidFill>
                <a:latin typeface="Calibri Light"/>
              </a:rPr>
              <a:t>Thank you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3FDE6-F0FD-4B26-BA17-14B051FAA52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638280" y="1467000"/>
            <a:ext cx="7939080" cy="4619520"/>
          </a:xfrm>
          <a:prstGeom prst="rect">
            <a:avLst/>
          </a:prstGeom>
          <a:ln w="0">
            <a:noFill/>
          </a:ln>
        </p:spPr>
      </p:pic>
      <p:sp>
        <p:nvSpPr>
          <p:cNvPr id="319" name="TextBox 8"/>
          <p:cNvSpPr/>
          <p:nvPr/>
        </p:nvSpPr>
        <p:spPr>
          <a:xfrm>
            <a:off x="2700360" y="6381720"/>
            <a:ext cx="61596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* K/DOQI guidelines. AJKD 2002; 39 (Suppl 1): S1-S266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117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KD - Irreversible proces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57E9B-19ED-46A3-96DA-CEE92068AA3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Picture 1" descr=""/>
          <p:cNvPicPr/>
          <p:nvPr/>
        </p:nvPicPr>
        <p:blipFill>
          <a:blip r:embed="rId1"/>
          <a:stretch/>
        </p:blipFill>
        <p:spPr>
          <a:xfrm>
            <a:off x="216000" y="1403280"/>
            <a:ext cx="8712000" cy="4354560"/>
          </a:xfrm>
          <a:prstGeom prst="rect">
            <a:avLst/>
          </a:prstGeom>
          <a:ln w="0">
            <a:noFill/>
          </a:ln>
        </p:spPr>
      </p:pic>
      <p:sp>
        <p:nvSpPr>
          <p:cNvPr id="324" name="Title 1"/>
          <p:cNvSpPr/>
          <p:nvPr/>
        </p:nvSpPr>
        <p:spPr>
          <a:xfrm>
            <a:off x="822240" y="287280"/>
            <a:ext cx="754380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KD ≠ Dialysi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6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CB9673-F2B5-46A0-B1A3-D8D242C2DF2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Content Placeholder 2"/>
          <p:cNvGraphicFramePr/>
          <p:nvPr/>
        </p:nvGraphicFramePr>
        <p:xfrm>
          <a:off x="493560" y="1577880"/>
          <a:ext cx="837108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Conten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1577880"/>
                    <a:ext cx="837108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Straight Connector 4"/>
          <p:cNvSpPr/>
          <p:nvPr/>
        </p:nvSpPr>
        <p:spPr>
          <a:xfrm>
            <a:off x="4680000" y="4869000"/>
            <a:ext cx="0" cy="647640"/>
          </a:xfrm>
          <a:prstGeom prst="line">
            <a:avLst/>
          </a:prstGeom>
          <a:ln w="316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traight Connector 6"/>
          <p:cNvSpPr/>
          <p:nvPr/>
        </p:nvSpPr>
        <p:spPr>
          <a:xfrm>
            <a:off x="7740720" y="4869000"/>
            <a:ext cx="0" cy="720720"/>
          </a:xfrm>
          <a:prstGeom prst="line">
            <a:avLst/>
          </a:prstGeom>
          <a:ln w="316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1"/>
          <p:cNvSpPr/>
          <p:nvPr/>
        </p:nvSpPr>
        <p:spPr>
          <a:xfrm>
            <a:off x="1988280" y="414972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800" spc="-1" strike="noStrike">
                <a:solidFill>
                  <a:srgbClr val="ff0000"/>
                </a:solidFill>
                <a:latin typeface="Calibri"/>
              </a:rPr>
              <a:t>-10 ml/min/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4219560" y="385272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800" spc="-1" strike="noStrike">
                <a:solidFill>
                  <a:srgbClr val="ff0000"/>
                </a:solidFill>
                <a:latin typeface="Calibri"/>
              </a:rPr>
              <a:t>-5 ml/min/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8"/>
          <p:cNvSpPr/>
          <p:nvPr/>
        </p:nvSpPr>
        <p:spPr>
          <a:xfrm>
            <a:off x="5951520" y="3208320"/>
            <a:ext cx="15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800" spc="-1" strike="noStrike">
                <a:solidFill>
                  <a:srgbClr val="ff0000"/>
                </a:solidFill>
                <a:latin typeface="Calibri"/>
              </a:rPr>
              <a:t>-2 ml/min/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traight Connector 2"/>
          <p:cNvSpPr/>
          <p:nvPr/>
        </p:nvSpPr>
        <p:spPr>
          <a:xfrm>
            <a:off x="284040" y="4795920"/>
            <a:ext cx="877896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FCE41-9469-42E5-A5D0-F4461AFEEF4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The impact of intervention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Content Placeholder 2" descr=""/>
          <p:cNvPicPr/>
          <p:nvPr/>
        </p:nvPicPr>
        <p:blipFill>
          <a:blip r:embed="rId1"/>
          <a:stretch/>
        </p:blipFill>
        <p:spPr>
          <a:xfrm>
            <a:off x="396720" y="1195560"/>
            <a:ext cx="8277480" cy="564336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: Rounded Corners 1"/>
          <p:cNvSpPr/>
          <p:nvPr/>
        </p:nvSpPr>
        <p:spPr>
          <a:xfrm>
            <a:off x="569880" y="1671480"/>
            <a:ext cx="1770120" cy="698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3"/>
          <p:cNvSpPr/>
          <p:nvPr/>
        </p:nvSpPr>
        <p:spPr>
          <a:xfrm>
            <a:off x="755640" y="1835280"/>
            <a:ext cx="14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void in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854114-A801-487B-8C79-D40F57CE66F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43920"/>
            <a:ext cx="7543800" cy="144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KD management pla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Content Placeholder 2" descr=""/>
          <p:cNvPicPr/>
          <p:nvPr/>
        </p:nvPicPr>
        <p:blipFill>
          <a:blip r:embed="rId1"/>
          <a:stretch/>
        </p:blipFill>
        <p:spPr>
          <a:xfrm>
            <a:off x="396720" y="1195560"/>
            <a:ext cx="8277480" cy="564336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: Rounded Corners 1"/>
          <p:cNvSpPr/>
          <p:nvPr/>
        </p:nvSpPr>
        <p:spPr>
          <a:xfrm>
            <a:off x="569880" y="1671480"/>
            <a:ext cx="1770120" cy="6987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3"/>
          <p:cNvSpPr/>
          <p:nvPr/>
        </p:nvSpPr>
        <p:spPr>
          <a:xfrm>
            <a:off x="755640" y="1835280"/>
            <a:ext cx="144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void in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C2068E-EAAB-48DA-903C-29DDD62DCCE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43920"/>
            <a:ext cx="7543800" cy="144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CKD management pla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Content Placeholder 6" descr=""/>
          <p:cNvPicPr/>
          <p:nvPr/>
        </p:nvPicPr>
        <p:blipFill>
          <a:blip r:embed="rId1"/>
          <a:stretch/>
        </p:blipFill>
        <p:spPr>
          <a:xfrm>
            <a:off x="469800" y="178596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269B9-9FDB-4603-A5B0-2447B7F95AB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 Light"/>
              </a:rPr>
              <a:t>Strategies to delay CKD progress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000000"/>
                </a:solidFill>
                <a:latin typeface="Calibri Light"/>
              </a:rPr>
              <a:t>Established strategies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54F60-389E-4438-8BA6-0BC27D1208D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4T09:53:13Z</dcterms:created>
  <dc:creator>user</dc:creator>
  <dc:description/>
  <dc:language>en-US</dc:language>
  <cp:lastModifiedBy>Dr. Mohd. Aminuddin</cp:lastModifiedBy>
  <dcterms:modified xsi:type="dcterms:W3CDTF">2019-05-02T03:13:37Z</dcterms:modified>
  <cp:revision>164</cp:revision>
  <dc:subject/>
  <dc:title>SCREENING &amp; DIAGNOSIS</dc:title>
</cp:coreProperties>
</file>